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463B-B677-4101-876D-E6FEFF8A3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3A74-5231-4E7B-8852-4559CF89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0F6C-21D3-4645-AF72-F9A3053A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3C28-BFFB-49A1-B975-F48BABDF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2EE0-5FC6-482F-AF33-110332AE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ABF8-895F-4DD1-903C-172D77D3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0C8D-8C57-4070-A51F-66C7AD22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7324-A4E4-4F62-A7CC-F7EF95FB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1B32-BA53-4235-BD32-28B57989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AF43-E948-4D35-837F-4FB7D68D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1FFA-169C-43F6-B407-2A1CD98E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91D4-F675-4D2E-A12B-9D3BD56A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5CFD-5B65-40DE-A32C-D2C42AC5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EC04-8E7C-47FC-9872-B2BF586B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97CE-AA37-4E07-B745-1DD2A272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79E2-6A99-44F0-8B30-9598B52B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3DB1-A014-48EA-A7A4-6E71029B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B01F-5A12-459A-A10C-BF682C61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D5F1-9D4E-4C20-8E03-C8516804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37FF-E420-47EB-8A79-5677B10D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38BE-013D-4BE5-AE72-C130FBE5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3781-026C-47AE-8FA4-7CAE73D6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BEB6-0EDC-4BDF-AB09-E28164A9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0376-F231-481B-AC40-871A8C3A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97F4-E136-45BA-BF70-658AE12CFB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706D-86AC-43FA-8BFF-C2AFD003DC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Comic Sans MS"/>
              </a:rPr>
              <a:t>El texto argumentativo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gunda pa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La obje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0356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 argumentar hay que saber presentar objeciones ante los argumentos de los demás, saber expresar nuestro desacuerdo y explicar por qué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036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Es una pena que no dejen ir a los perros a la mayoría de las playas. La gente que está de acuerdo cree que molestan y ensucian; pero no tienen en cuenta que hay personas que también 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molestan, y mucho (gritan, ponen la radio a todo volumen, juegan a la pelota sin importarles si dan a alguien), y ensuciar no digam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Dar y escuchar opinion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456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uando damos opiniones, o cuando escuchamos las de los demás, y cuando entramos en razonamientos, estamos argumentan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 hacerlo nos aparecen diversas posibilidades.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Cómo expresarnos cuando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  que dice otra persona es cierto, pero no en su totalidad: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oncesió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Queremos corregir, concretar algo que hemos dicho: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orrección</a:t>
            </a:r>
            <a:r>
              <a:rPr b="1" lang="en-US" sz="2800" spc="-1" strike="noStrike">
                <a:solidFill>
                  <a:srgbClr val="cccc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r>
              <a:rPr b="1" lang="en-US" sz="2800" spc="-1" strike="noStrike">
                <a:solidFill>
                  <a:srgbClr val="cccc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ejemplificació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Queremos destacar lo important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:</a:t>
            </a:r>
            <a:r>
              <a:rPr b="1" lang="en-US" sz="2800" spc="-1" strike="noStrike">
                <a:solidFill>
                  <a:srgbClr val="cccc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énfasi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 estamos seguros de algo: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hipótesi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enemos que concretar la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alida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bemos indicar la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ausa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onsecuencia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Queremos explicar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por qué no estamos de acuerdo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La conces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280360" cy="4680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a concesión es una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ontraargumentación.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Consiste en aceptar que una persona tiene razón en algún aspecto, pero se olvida de algo para nosotros fundament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0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00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Aunque es cierto que .......  eso no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00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Es verdad que ... pero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00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Hay que reconocer que tienen parte de razón, pero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00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Estoy de acuerdo con los que dicen que ..., sin embargo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00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Muchas personas dicen que ... pero no se dan cuenta de que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Corrección y ejemplifica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060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Podemos corregir algo que hemos escrito justo antes, concretarlo, matizarlo y detallarlo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81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8000"/>
                </a:solidFill>
                <a:latin typeface="Comic Sans MS"/>
              </a:rPr>
              <a:t>   </a:t>
            </a:r>
            <a:r>
              <a:rPr b="0" i="1" lang="es-ES" sz="2800" spc="-1" strike="noStrike">
                <a:solidFill>
                  <a:srgbClr val="008000"/>
                </a:solidFill>
                <a:latin typeface="Comic Sans MS"/>
              </a:rPr>
              <a:t>Los entrenadores de fútbol tienen que tener en cuenta muchas cosas; </a:t>
            </a:r>
            <a:r>
              <a:rPr b="0" i="1" lang="es-ES" sz="2800" spc="-1" strike="noStrike" u="sng">
                <a:solidFill>
                  <a:srgbClr val="008000"/>
                </a:solidFill>
                <a:uFillTx/>
                <a:latin typeface="Comic Sans MS"/>
              </a:rPr>
              <a:t>mejor dicho</a:t>
            </a:r>
            <a:r>
              <a:rPr b="0" i="1" lang="es-ES" sz="2800" spc="-1" strike="noStrike">
                <a:solidFill>
                  <a:srgbClr val="008000"/>
                </a:solidFill>
                <a:latin typeface="Comic Sans MS"/>
              </a:rPr>
              <a:t>, mu-chísimas cosas </a:t>
            </a:r>
            <a:r>
              <a:rPr b="0" lang="es-ES" sz="2800" spc="-1" strike="noStrike">
                <a:solidFill>
                  <a:srgbClr val="008000"/>
                </a:solidFill>
                <a:latin typeface="Comic Sans MS"/>
              </a:rPr>
              <a:t>[y damos una lista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i="1" lang="es-ES" sz="2800" spc="-1" strike="noStrike">
                <a:solidFill>
                  <a:srgbClr val="008000"/>
                </a:solidFill>
                <a:latin typeface="Comic Sans MS"/>
              </a:rPr>
              <a:t>Tienen que tener en cuenta muchas cosas, </a:t>
            </a:r>
            <a:r>
              <a:rPr b="0" i="1" lang="es-ES" sz="2800" spc="-1" strike="noStrike" u="sng">
                <a:solidFill>
                  <a:srgbClr val="008000"/>
                </a:solidFill>
                <a:uFillTx/>
                <a:latin typeface="Comic Sans MS"/>
              </a:rPr>
              <a:t>por</a:t>
            </a:r>
            <a:r>
              <a:rPr b="0" i="1" lang="es-E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i="1" lang="es-ES" sz="2800" spc="-1" strike="noStrike" u="sng">
                <a:solidFill>
                  <a:srgbClr val="008000"/>
                </a:solidFill>
                <a:uFillTx/>
                <a:latin typeface="Comic Sans MS"/>
              </a:rPr>
              <a:t>ejemplo</a:t>
            </a:r>
            <a:r>
              <a:rPr b="0" lang="es-ES" sz="2800" spc="-1" strike="noStrike">
                <a:solidFill>
                  <a:srgbClr val="008000"/>
                </a:solidFill>
                <a:latin typeface="Comic Sans MS"/>
              </a:rPr>
              <a:t>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El énfasi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uando damos nuestro punto de vista sobre algo, tenemos que tener un enfoque personal. Damos importancia a ciertas cosas, y no se la damos a otr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36036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A la hora d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hacer un ejercicio físico es 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muy importante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 hacer ejercicios de calentamiento.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36036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Incluso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 hay estudios que demuestran que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36036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Hasta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 quien es muy listo se equivoca a veces.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La hipótesi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na suposición nos permite dar razones, pues nos apoyamos en los efectos previstos, y podemos tener en cuenta si son positiv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26964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Supongamos que todos hiciéramos lo que nos diera la gana. ¿Que ocurriría? Pues que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[...] 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por eso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[...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La finalida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uchas veces hacemos cosas teniendo en cuenta un fin, por ello, cuando argumentamos, podemos relacionar ideas con los fines que nos proponem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27000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Si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 queremos que 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haya un mejor clima en clase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[observa que estamos planteando una condición, y una finalidad en la que todos estamos de acuerdo] 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entonces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[consecuencia]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 todos deberíamos poner algo de nuestra parte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La causa y la consecuenci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9891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 hablar de una causa, el nexo más usual es la conjunción "porque“, pero hay otras posibilidades: 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ya que, dado que, pues, puesto que, visto que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as consecuencias se relacionan con las causas; es como el reverso de una medalla. Los conectores que expresan consecuencia son: 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por tanto, por ello, por eso, en consecuencia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2T16:08:15Z</dcterms:created>
  <dc:creator>Guillermo</dc:creator>
  <dc:description/>
  <dc:language>en-US</dc:language>
  <cp:lastModifiedBy>Guillermo</cp:lastModifiedBy>
  <dcterms:modified xsi:type="dcterms:W3CDTF">2014-07-19T13:06:36Z</dcterms:modified>
  <cp:revision>10</cp:revision>
  <dc:subject/>
  <dc:title>El texto argumentativo</dc:title>
</cp:coreProperties>
</file>